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D69D-E65B-4410-B852-D99592625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1488-76B9-481A-B5F3-0946AB2BE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3BF8-246A-4FDE-9C61-BE8248BBD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6AD8-0E73-4178-8F33-87242B4C1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F05F-435F-44C0-A942-8C4BC961E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25B5-0B4E-49A3-A1D4-99BB02B2D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D0FF-191A-4FE9-A64F-4544AAE69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0B33-B947-4E33-A283-D0CFE9E19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85E5-8C7C-40CE-9068-0FE8A7589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CA84-8548-4CB4-A6E7-333B6A16E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8A63-FFD1-47D1-88B0-30824BAA1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A87A-706E-4211-8E21-76D6CAEB3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A7407-C260-4094-AFFB-2B4473349F3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260280"/>
            <a:ext cx="70804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епартамент образования и науки Курганской области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Государственное бюджетное учреждение</a:t>
            </a:r>
            <a:br>
              <a:rPr sz="32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«Центр помощи детям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42560" y="5373720"/>
            <a:ext cx="78548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C:\Users\Елена\Desktop\образец 1.jpg"/>
          <p:cNvPicPr/>
          <p:nvPr/>
        </p:nvPicPr>
        <p:blipFill>
          <a:blip r:embed="rId1"/>
          <a:stretch/>
        </p:blipFill>
        <p:spPr>
          <a:xfrm>
            <a:off x="250920" y="260280"/>
            <a:ext cx="1296720" cy="1297080"/>
          </a:xfrm>
          <a:prstGeom prst="rect">
            <a:avLst/>
          </a:prstGeom>
          <a:ln w="0">
            <a:noFill/>
          </a:ln>
        </p:spPr>
      </p:pic>
      <p:sp>
        <p:nvSpPr>
          <p:cNvPr id="44" name="Заголовок 1"/>
          <p:cNvSpPr/>
          <p:nvPr/>
        </p:nvSpPr>
        <p:spPr>
          <a:xfrm>
            <a:off x="611280" y="2133720"/>
            <a:ext cx="820728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Как говорить с детьм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о безопас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938160" cy="933480"/>
          </a:xfrm>
          <a:prstGeom prst="rect">
            <a:avLst/>
          </a:prstGeom>
          <a:ln w="0">
            <a:noFill/>
          </a:ln>
        </p:spPr>
      </p:pic>
      <p:sp>
        <p:nvSpPr>
          <p:cNvPr id="46" name="Заголовок 1"/>
          <p:cNvSpPr/>
          <p:nvPr/>
        </p:nvSpPr>
        <p:spPr>
          <a:xfrm>
            <a:off x="1117440" y="92160"/>
            <a:ext cx="7080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омни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34680" y="907920"/>
            <a:ext cx="831996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5000"/>
          </a:bodyPr>
          <a:p>
            <a:pPr marL="204840" indent="-204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учение детей и подростков действиям при возникновении ЧС необходимо проводить регулярно и систематически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в спокойной повседневной жиз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04840" indent="-204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Язык объяснений значительно отличается в зависимости от возраста дет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04840" indent="-204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е пугать. Вести диало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04840" indent="-204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е перегружать информаци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04840" indent="-204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Акцент всегда делать на спасении, удачном выходе из ситу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04840" indent="-204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авать алгоритм действ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04840" indent="-204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ренироваться для усвоения алгорит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04840" indent="-204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04840" indent="-2048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938160" cy="933480"/>
          </a:xfrm>
          <a:prstGeom prst="rect">
            <a:avLst/>
          </a:prstGeom>
          <a:ln w="0">
            <a:noFill/>
          </a:ln>
        </p:spPr>
      </p:pic>
      <p:sp>
        <p:nvSpPr>
          <p:cNvPr id="49" name="Заголовок 1"/>
          <p:cNvSpPr/>
          <p:nvPr/>
        </p:nvSpPr>
        <p:spPr>
          <a:xfrm>
            <a:off x="1332000" y="98280"/>
            <a:ext cx="708012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ttp://centr45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C:\Users\Алексей\Desktop\памятка 2.png"/>
          <p:cNvPicPr/>
          <p:nvPr/>
        </p:nvPicPr>
        <p:blipFill>
          <a:blip r:embed="rId2"/>
          <a:stretch/>
        </p:blipFill>
        <p:spPr>
          <a:xfrm>
            <a:off x="635040" y="1438200"/>
            <a:ext cx="3427200" cy="4643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211280" y="1557360"/>
            <a:ext cx="47530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Учитывать эмоциональные реакции и отношение детей к воспринимаемой информ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учать взрослых и детей способам саморегуляции и снятия психоэмоционального напряж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Заголовок 1"/>
          <p:cNvSpPr/>
          <p:nvPr/>
        </p:nvSpPr>
        <p:spPr>
          <a:xfrm>
            <a:off x="1332000" y="98280"/>
            <a:ext cx="708012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ttp://spasay-kin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C:\Users\Алексей\Desktop\Спасайкин.png"/>
          <p:cNvPicPr/>
          <p:nvPr/>
        </p:nvPicPr>
        <p:blipFill>
          <a:blip r:embed="rId1"/>
          <a:stretch/>
        </p:blipFill>
        <p:spPr>
          <a:xfrm>
            <a:off x="1117440" y="1197000"/>
            <a:ext cx="7056720" cy="53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Заголовок 1"/>
          <p:cNvSpPr/>
          <p:nvPr/>
        </p:nvSpPr>
        <p:spPr>
          <a:xfrm>
            <a:off x="1332000" y="98280"/>
            <a:ext cx="708012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ttp://www.spas-extreme.ru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C:\Users\Ольга Викторовна\Desktop\Безымянный.png"/>
          <p:cNvPicPr/>
          <p:nvPr/>
        </p:nvPicPr>
        <p:blipFill>
          <a:blip r:embed="rId1"/>
          <a:stretch/>
        </p:blipFill>
        <p:spPr>
          <a:xfrm>
            <a:off x="1116000" y="965160"/>
            <a:ext cx="6912000" cy="57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Заголовок 1"/>
          <p:cNvSpPr/>
          <p:nvPr/>
        </p:nvSpPr>
        <p:spPr>
          <a:xfrm>
            <a:off x="1332000" y="98280"/>
            <a:ext cx="708012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бучающие мультфиль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C:\Users\Алексей\Desktop\мульт.png"/>
          <p:cNvPicPr/>
          <p:nvPr/>
        </p:nvPicPr>
        <p:blipFill>
          <a:blip r:embed="rId1"/>
          <a:stretch/>
        </p:blipFill>
        <p:spPr>
          <a:xfrm>
            <a:off x="826920" y="1217520"/>
            <a:ext cx="73710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Заголовок 1"/>
          <p:cNvSpPr/>
          <p:nvPr/>
        </p:nvSpPr>
        <p:spPr>
          <a:xfrm>
            <a:off x="339840" y="404640"/>
            <a:ext cx="842796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оциальные видеоролики антитеррористической направлен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ttp://kurganobl.ru/socialnye-videoroliki-antiterroristicheskoy-napravlennost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C:\Users\Алексей\Desktop\Безымянный.png"/>
          <p:cNvPicPr/>
          <p:nvPr/>
        </p:nvPicPr>
        <p:blipFill>
          <a:blip r:embed="rId1"/>
          <a:stretch/>
        </p:blipFill>
        <p:spPr>
          <a:xfrm>
            <a:off x="4424400" y="2133720"/>
            <a:ext cx="4573440" cy="43574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324000" y="2565360"/>
            <a:ext cx="401472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№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4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«Обман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№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8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«Как спасти человека от терроризма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№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9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«Бдительность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Заголовок 1"/>
          <p:cNvSpPr/>
          <p:nvPr/>
        </p:nvSpPr>
        <p:spPr>
          <a:xfrm>
            <a:off x="314280" y="268200"/>
            <a:ext cx="842652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амятки, плак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ttp://kurganobl.ru/informacionnye-materialy-dlya-stendov-plakatov-pamyat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C:\Users\Алексей\Desktop\памятка.png"/>
          <p:cNvPicPr/>
          <p:nvPr/>
        </p:nvPicPr>
        <p:blipFill>
          <a:blip r:embed="rId1"/>
          <a:stretch/>
        </p:blipFill>
        <p:spPr>
          <a:xfrm>
            <a:off x="5094360" y="1700280"/>
            <a:ext cx="3646440" cy="4824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C:\Users\Алексей\Desktop\image_1449711825.jpg"/>
          <p:cNvPicPr/>
          <p:nvPr/>
        </p:nvPicPr>
        <p:blipFill>
          <a:blip r:embed="rId2"/>
          <a:stretch/>
        </p:blipFill>
        <p:spPr>
          <a:xfrm>
            <a:off x="971640" y="1936800"/>
            <a:ext cx="3240000" cy="45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Заголовок 1"/>
          <p:cNvSpPr/>
          <p:nvPr/>
        </p:nvSpPr>
        <p:spPr>
          <a:xfrm>
            <a:off x="395280" y="115920"/>
            <a:ext cx="842796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Информационные порталы для специалистов, педагог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140000" y="1628280"/>
            <a:ext cx="48258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ртал «Наука и образование против террора» http://scienceport.ru/ (http://нцпти.рф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циональный антитеррористический комитет   http://nac.gov.ru/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нформационно-аналитический портал «AntiterrorToday» http://www.antiterrortoday.com/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Экстремизм.r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http://www.ekstremizm.ru/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едиапортал о безопасности   «Азбука безопасности»  http://azbez.com/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C:\Users\Алексей\Desktop\Безымянный.png"/>
          <p:cNvPicPr/>
          <p:nvPr/>
        </p:nvPicPr>
        <p:blipFill>
          <a:blip r:embed="rId1"/>
          <a:stretch/>
        </p:blipFill>
        <p:spPr>
          <a:xfrm>
            <a:off x="420840" y="1989000"/>
            <a:ext cx="360036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7T16:36:16Z</dcterms:created>
  <dc:creator>Сергей</dc:creator>
  <dc:description/>
  <dc:language>en-US</dc:language>
  <cp:lastModifiedBy>Региональная психологическая служба</cp:lastModifiedBy>
  <dcterms:modified xsi:type="dcterms:W3CDTF">2018-10-31T04:02:34Z</dcterms:modified>
  <cp:revision>118</cp:revision>
  <dc:subject/>
  <dc:title>Государственное казенное образовательное учреждение для детей, нуждающихся в психолого-педагогической и медико-социальной помощи  «Центр психолого-медико-социального сопровождения»</dc:title>
</cp:coreProperties>
</file>