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F3E-01B5-4CBC-9548-BD21EF60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4CD-071F-4D33-B9DB-A1DFA9C2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C23-B820-4C86-8D04-E0A7C616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F39-88F6-4FF2-8185-5AA47426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0CF-AAE4-45EF-A0F0-FB95BEC3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0C2-2ECF-4806-B721-389D5B88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8D4-513F-4355-B719-89D75D37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845-EA64-468B-926E-BE713ECA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F37-0B5D-498D-BD49-3A21C21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902-D31C-4E2F-BFD2-28B97DF7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6FE-34F6-44FD-928D-359B9A8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87C-F89C-47A3-8959-7409B58D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7D44-DF46-4E60-A40A-A53F46BBBE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entr45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260280"/>
            <a:ext cx="7080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партамент образования и науки Курганской област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ое бюджетное учреждение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Центр помощи детя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5373720"/>
            <a:ext cx="7854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Users\Елена\Desktop\образец 1.jpg"/>
          <p:cNvPicPr/>
          <p:nvPr/>
        </p:nvPicPr>
        <p:blipFill>
          <a:blip r:embed="rId1"/>
          <a:stretch/>
        </p:blipFill>
        <p:spPr>
          <a:xfrm>
            <a:off x="250920" y="26028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611280" y="2133720"/>
            <a:ext cx="82072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сихологической комфортности в образовательной орган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ий комфор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000" y="155700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ф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это условия жизни, пребывания, обстановка, обеспечивающие удобство, спокойствие и уют («Толковый словарь русского языка» С.И. Ожегов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ово «комфорт» заимствовано из английского языка, что означает «поддержка, укрепление» («Этимологический словарь русского языка» Н.М. Шанского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ий комфор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 это условия жизни, при которых человек чувствует себя спокойно, нет необходимости защищ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5436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 администрации и педагога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025640"/>
            <a:ext cx="8569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Дополнительный инструктаж (семинар, педсовет) по данной теме, в который включить вопрос о том, как вести себя в экстремальной ситу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Родительские собр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 ответственности родителей за воспитание и развитии своих детей, в том числе обеспечении психического, физического здоровья, нравственного и духовного воспитания (Семейный Кодекс ст.63) и об ответственности за ненадлежащее выполнение своих обязанностей (ст.5.35 Административного Кодекс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иление родительского контроля за временем пребывания ребенка в сети Интернет, посещаемым контентом, а также регулярным просмотром страниц ребенка в социальны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допущении детей к месту хранения любого вида оружия, в том числе пневматическог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 необходимости обеспечения психологически комфортной обстановки в семь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 особенностях подросткового возраста и способах наладить с ребенком доверительные отнош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4920" y="49320"/>
            <a:ext cx="95400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ы для проведения родительских собр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ий план родительского всеобуч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Знаю ли я своего ребен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- инф. письмо ДОН от 5 сентября 2017 года №1973/1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уклеты и памятки для родител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Роль взрослых в оказании помощи подростку в кризисной ситуаци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Безопасность детей в сети Интернет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борник родительских собран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Родители и дети: как построить гармоничные отношения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борник родительских собраний по профилактик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Азбука для родителей»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борник для родителей и педагог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ак построить отношения с подростко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38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9640" y="259920"/>
            <a:ext cx="81583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 администрации и педагога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Педагогам необходимо отслеживать и контролировать резкие изменения в поведении и эмоциональном состоян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Развитие и совершенствование Служб школьной меди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Пересмотреть направление правового воспитания детей, провести классные часы с привлечением сотрудников полиции по вопросам ответственности за противоправное пове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. Профилактика школьного буллинга и обеспечение выявления и персонального контроля не только за детьми с девиантным поведением, но и  детьми - жертвами трав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. Профилактика деструктивного поведения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. Разместить плакаты с адресами и телефонами экстренных служб и единого общероссийского детского телефона доверия 8-800-2000-122 на информационных стенд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4920" y="34920"/>
            <a:ext cx="9921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 администрации и педагог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. Выполнять рекомендации Департамента образования и науки Курганской области по проведен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сных часов по формированию законопослушного повед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сных часов по программе «Цени свою жизнь» по формированию жизнестойкости обучающихся с целью содействия осознанию ценности жизни и своих целей в ней, формированию жизнестойкого поведения, позитивной «Я-концепции», позитивного мироощущения - инф. письмо ДОН от 5 сентября 2017 года №1973/1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ческих мероприятий (анкетирование обучающихся (студентов) на предмет выявления признаков их вовлеченности в криминальные движения 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0094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-1116000" y="0"/>
            <a:ext cx="1164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712944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ГБУ «Центр помощи детям»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44-98-58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44-98-54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44-98-50</a:t>
            </a:r>
            <a:br>
              <a:rPr sz="3100"/>
            </a:br>
            <a:r>
              <a:rPr b="0" lang="en-US" sz="31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centr45.ru</a:t>
            </a:r>
            <a:br>
              <a:rPr sz="3100"/>
            </a:b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:\Users\Елена\Desktop\образец 1.jpg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6:36:16Z</dcterms:created>
  <dc:creator>Сергей</dc:creator>
  <dc:description/>
  <dc:language>en-US</dc:language>
  <cp:lastModifiedBy>Алексей</cp:lastModifiedBy>
  <dcterms:modified xsi:type="dcterms:W3CDTF">2018-11-02T16:33:06Z</dcterms:modified>
  <cp:revision>107</cp:revision>
  <dc:subject/>
  <dc:title>Государственное казенное образовательное учреждение для детей, нуждающихся в психолого-педагогической и медико-социальной помощи  «Центр психолого-медико-социального сопровождения»</dc:title>
</cp:coreProperties>
</file>